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AE5-DBFB-4B22-A30B-E51B237F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543-AA4A-4948-B49B-F0839D93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33C-DF35-4A41-BE63-D86CC41E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0B4-0AA2-48E6-8FB4-370F1B66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550-B8E9-4B11-9358-31930F7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005-CAD1-40DD-9EF6-1D671A9D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623-3EE2-4667-B221-ADB5AF0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43D-0DDD-4C6E-8828-269B39A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5D1-EC7C-49DC-AD98-EF473386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874-8FA2-4090-8529-E167583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4AE-8730-4EDD-9166-706AEC8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D84-55E8-45AC-8EBE-FBA5F9E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AF1E-4942-4C77-9FDF-269CACB4C2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715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εται ὁ Ἰησους και λαμβανει τον ἀρ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οχλος ἠρχετο ὁ παλιν παρα την θαλασσαν προς αὐτον, και ἐδιδασκεν αὐτου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πο τοτε ἠρξατο ὁ Ἰησους κυρυσσειν και λεγειν∙ Μετανοειτε∙ προσερχεται ἡ βασιλεια των οὐραν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ἐν παραβολῃ αὐτοις∙ Δει παντοτε προσευχεσθ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ὀχλος ἐζητουν ἁπτεσθαι αὐτον∙ σημεια ἐξουσιας παρ’ αὐτου ἐξηρχε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ωαννης ἐσται μεγας ἐνωπιον του κυριου ὡς ὁ Ἠλιας∙ ἀλλ’ ὁ Ἡρῳδης πονηρ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71524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ει ὁ υἱος του ἀνθρωπου ἐρχεσθαι ἐν τῃ δοξῃ του θεου μετα των ἀγγελων αὐτου, και τοτε δεξεται ἑκαστος κατα την ζωην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προς τους μαθητας∙ Εἰ θελετε ὀπισω του υἱου του ἀνθρωπου ἐρχεσθαι, ἀρνησασθε τον Σαταναν και ἀκολουθειτε τῳ κυριῳ καθ’ ἡμερα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house of Judah prayed, ‘Lord, rescue Israel from Egypt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ijah was a great prop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were going away from the synagogue when we were going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rnabas and Paul were proclaiming the good news on the road from Jerusalem with the faithful dis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προφηται ἐκηρυξαν∙ Ἐκ της καρδιας ἐξερχεται πονηρα και ἀγαθ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ι διερχεσθαι δια της ἐρημου συν τοις στρατιωτα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ἀγαπη κακον οὐκ ἐργαζεται∙ ἡ μεγαλη ἐντολη ἐστιν ἀγαπ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ονται ἐν κυριῳ Βαρναβας και Ἰουδας οἱ μαθηται τας ἐκκλησιας της Ἰερουσαλη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εγει προς τον ἀγγελον∙ Πως ἐστ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τε ἠμην τεκνον, ἐλαλουν ὡς τεκνον, ἐλογιζομη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1714680"/>
            <a:ext cx="87156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λλα ἐρχεται ὡρα και νυν ἐστιν, ὁτε οἱ μαθηται χαρᾳ προσκυνησουσιν τῳ κυριῳ, ὡς αὐτους ζητει και προσκαλειται ὁ θε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ῥυσῃ ἀνθρωπον ἁμαρτιας ἐκ του θανατου του αἰωνι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was a brother and a disci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oldiers of Herod are passing on the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pl.) wish to go into church or to be al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Herod, Joseph and Mary were going along the sea on the road to Egypt with the child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42960" y="1571760"/>
            <a:ext cx="792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4.1-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ὶ πάλιν ἤρξατο διδάσκειν παρὰ τὴν θάλασσαν∙ καὶ συνάγετ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t was gathere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ὸς αὐτὸν ὄχλος πλεῖσ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very larg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, ὥστε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with the result 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ὸν εἰς πλοῖον ἐμβά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tting i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καθῆσθ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ῇ θαλάσσῃ, καὶ π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ὄχλος πρὸς τὴν θάλασσαν ἐπὶ τῆς γῆς ἦσαν.     2 καὶ ἐδίδασκεν αὐτοὺς ἐν παραβολαῖς πολλὰ καὶ ἔλεγεν αὐτοῖς ἐν τῇ διδαχῇ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eaching, instruct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οῦ, ..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8-09-07T14:20:55Z</dcterms:modified>
  <cp:revision>16</cp:revision>
  <dc:subject/>
  <dc:title>Slide 1</dc:title>
</cp:coreProperties>
</file>